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69BA-9EF9-49C5-B297-96AF2806BE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适合本国国情的方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8D9-A2CF-4B7C-8D26-BB01B423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4C5-BE7A-46CF-BBAC-39D44C3A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7D5-0255-4A76-88F2-A25B8B19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E70-EE7B-46B9-AA42-5D82350F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F04-E774-444E-AB45-4161FD43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563-245C-4402-8695-F56161C5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8A2-3D73-4044-9B4B-E2C2FBC0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574-5B2B-40F9-A216-8DC8E455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6F8-DC8E-4965-8442-B51141E8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CD1-EB5B-4A7B-AC04-89AE0466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77B-C53F-49F8-8718-0B5CA14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C9D-3E55-4A57-B698-B7D8BE6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2D88-4977-4FD0-BEC9-181CF026A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60桌面截图201409091545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7010280" y="2819520"/>
            <a:ext cx="819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52280" y="350532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，主要有哪些国家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什么方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走上了资本主义的发展道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600200" y="4495680"/>
            <a:ext cx="1295280" cy="1828800"/>
          </a:xfrm>
          <a:prstGeom prst="upArrow">
            <a:avLst>
              <a:gd name="adj1" fmla="val 50000"/>
              <a:gd name="adj2" fmla="val 3529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革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00400" y="4952880"/>
            <a:ext cx="3505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俄国、日本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0"/>
            <a:ext cx="9144000" cy="3450600"/>
            <a:chOff x="0" y="0"/>
            <a:chExt cx="9144000" cy="345060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352680" cy="266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" name=""/>
            <p:cNvGrpSpPr/>
            <p:nvPr/>
          </p:nvGrpSpPr>
          <p:grpSpPr>
            <a:xfrm>
              <a:off x="0" y="0"/>
              <a:ext cx="3304800" cy="3450600"/>
              <a:chOff x="0" y="0"/>
              <a:chExt cx="3304800" cy="3450600"/>
            </a:xfrm>
          </p:grpSpPr>
          <p:pic>
            <p:nvPicPr>
              <p:cNvPr id="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3304800" cy="29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1135080" y="2990880"/>
                <a:ext cx="194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黑体"/>
                  </a:rPr>
                  <a:t>处死查理一世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2971800" y="0"/>
              <a:ext cx="3276720" cy="282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934320" y="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议一议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228600"/>
            <a:ext cx="39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6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改革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464832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维护地主阶级利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摆脱统治危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材料一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亚历山大二世在俄国国务会议最后审查改革方案时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诸位会深信，凡是能够维护地主利益的措施，都一一地做到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九年级上世界历史教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84904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材料二：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其让农奴自下而上解放自己，不如自上而下解放农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亚历山大二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457200"/>
            <a:ext cx="8659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材料一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60-189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俄国的生铁产量增加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倍，钢产量和棉纺织业都增加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倍，而煤炭产量增加超过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倍，石油产量增加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倍。在此期间，俄国整个工业产量增加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倍，铁路线增长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倍多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----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俄国社会经济史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2670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俄国资本主义发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八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6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改革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13372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材料二：由于统治阶级实行的这次改革是很不彻底的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俄国的专制制度并没有发生本质性的变化，广大劳动群众仍然缺乏基本的民主权利。沙皇俄国的近代化步伐依然沉重而缓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-----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百度百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从材料一和材料二中我们可以分别得出什么历史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49528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留下大量封建残余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5638680"/>
            <a:ext cx="75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俄国近代历史上的重大转折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走上资本主义发展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492920"/>
            <a:ext cx="8001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距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前，为什么国土狭小的日本能够战胜地大物博的清王朝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2743200" cy="9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历史拷问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4619520" cy="2847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724280" y="56386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午中日战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894-189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3880" y="3733920"/>
            <a:ext cx="1143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380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日本明治维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590920"/>
            <a:ext cx="3352680" cy="2689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62520" y="5410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影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905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幕府统治下的危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1143000" y="15228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闭关锁国、落后的封建国家，天皇大权旁落，幕府将军掌握实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1143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外国势力渗透，激化国内矛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0320" y="10008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外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3880" y="2666880"/>
            <a:ext cx="4419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同是天涯沦落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400800" y="2819520"/>
            <a:ext cx="2554200" cy="3809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28600" y="3962520"/>
            <a:ext cx="4317840" cy="2701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81080" y="1828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幕府统治                日本资本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828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革原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阻碍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2120" y="685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倒幕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当幕府统治产生危机，面临沦为半殖民地的危险之际。一部分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产生变革意识，弃旧图新，主张以武力推翻幕府统治，并取得成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21337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下级武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29000" y="4800600"/>
            <a:ext cx="2514600" cy="1147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438280" y="4114800"/>
            <a:ext cx="2819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铲除障碍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46440" y="3808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）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066680" y="1752480"/>
          <a:ext cx="7543800" cy="3316320"/>
        </p:xfrm>
        <a:graphic>
          <a:graphicData uri="http://schemas.openxmlformats.org/drawingml/2006/table">
            <a:tbl>
              <a:tblPr/>
              <a:tblGrid>
                <a:gridCol w="1828800"/>
                <a:gridCol w="571500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93"/>
                        </a:gs>
                        <a:gs pos="50000">
                          <a:srgbClr val="ffff00"/>
                        </a:gs>
                        <a:gs pos="100000">
                          <a:srgbClr val="fefe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93"/>
                        </a:gs>
                        <a:gs pos="50000">
                          <a:srgbClr val="ffff00"/>
                        </a:gs>
                        <a:gs pos="100000">
                          <a:srgbClr val="fefe93"/>
                        </a:gs>
                      </a:gsLst>
                      <a:lin ang="5400000"/>
                    </a:gradFill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经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93"/>
                        </a:gs>
                        <a:gs pos="50000">
                          <a:srgbClr val="ffff00"/>
                        </a:gs>
                        <a:gs pos="100000">
                          <a:srgbClr val="fefe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93"/>
                        </a:gs>
                        <a:gs pos="50000">
                          <a:srgbClr val="ffff00"/>
                        </a:gs>
                        <a:gs pos="100000">
                          <a:srgbClr val="fefe93"/>
                        </a:gs>
                      </a:gsLst>
                      <a:lin ang="5400000"/>
                    </a:gradFill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社会生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93"/>
                        </a:gs>
                        <a:gs pos="50000">
                          <a:srgbClr val="ffff00"/>
                        </a:gs>
                        <a:gs pos="100000">
                          <a:srgbClr val="fefe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93"/>
                        </a:gs>
                        <a:gs pos="50000">
                          <a:srgbClr val="ffff00"/>
                        </a:gs>
                        <a:gs pos="100000">
                          <a:srgbClr val="fefe9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74320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资产阶级性质的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981080" y="3657240"/>
            <a:ext cx="2362320" cy="19810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876920" y="4800240"/>
            <a:ext cx="1295280" cy="10666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333760" y="2514600"/>
            <a:ext cx="2057400" cy="320040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86728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最体现改革性质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最具眼光、前途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固新政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48520" y="380880"/>
            <a:ext cx="2438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自主学习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38862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提倡“文明开化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即向欧美学习，努力发展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1905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废藩置县；加强中央集权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80160" y="2666880"/>
            <a:ext cx="31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允许土地买卖，引进西方技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展近代工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5410080" cy="3516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965320" cy="4191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9880" y="4923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近代军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280" y="855360"/>
            <a:ext cx="899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材料：  日本新领导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注：指明治维新的领导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赞成这种不加区别地奉承所有西方东西的做法，他们并不对西方文明本身感兴趣，而仅仅对其中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增强了民族力量的那些组成成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兴趣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们现在提出了一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非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改革方案，宗旨在于建立一个强大的日本，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是完全模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西方国家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讲究实际的日本领导人得出了这一明确结论：每个民族必须为自己去掠夺，软弱和胆小将一无所获。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斯塔夫里阿诺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球通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结合所学知识如何理解“非凡”（特点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“每个民族必须为自己去掠夺，软弱和胆小将一无所获”如何理解，为实现此的主要措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2670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全面性；不照抄照搬，结合国情，有选择、有侧重的进行改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6019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走上了对外侵略扩张的军国主义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一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据统计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六七十年代，日本、英国、美国、德国经济年增长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419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积极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使日本从一个闭关锁国的封建国家，逐步转变为资本主义国家，摆脱了沦为半殖民地的命运，是日本历史重大的转折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7150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极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走上了对外侵略扩张的军国主义道路，保留大量的封建残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28800" y="1981080"/>
            <a:ext cx="3657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相逢早已不相识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四）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12952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材料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早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87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年，刚刚走上资本主义道路的日本，就以武力强迫朝鲜签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江华条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…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89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年，日本挑起甲午中日战争，加紧控制朝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9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年，正式吞并朝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5812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合书本，说说明治维新使日本社会产生了哪些深刻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438280" y="76212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俄国、日本的历史转折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685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600200" y="198108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77520" y="99072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俄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6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改革和日本明治维新有哪些相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28600" y="1523880"/>
            <a:ext cx="1778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局限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600200" y="762120"/>
            <a:ext cx="6705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1981080"/>
            <a:ext cx="1066680" cy="1828800"/>
          </a:xfrm>
          <a:prstGeom prst="downArrow">
            <a:avLst>
              <a:gd name="adj1" fmla="val 50000"/>
              <a:gd name="adj2" fmla="val 428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543800" y="2057400"/>
            <a:ext cx="1143000" cy="1828800"/>
          </a:xfrm>
          <a:prstGeom prst="downArrow">
            <a:avLst>
              <a:gd name="adj1" fmla="val 50000"/>
              <a:gd name="adj2" fmla="val 4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改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5447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（农奴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幕府统治）阻碍资本主义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27432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自上而下的资产阶级性质的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9625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走上了资本主义道路，历史的重大转折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5029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保留了大量的封建残余，对外扩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0"/>
            <a:ext cx="140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找一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-16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动脑筋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认为应当怎样认识俄国农奴在改革后的得与失？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1728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老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“俄国废除农奴制的改革，促进了资本主义的发展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179080"/>
            <a:ext cx="8534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少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“那些获得‘自由’的农奴，已经被剥夺得一干二净，对他们而言，这次改革没有多少好处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26708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评价方法：全面、多视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辩证、一分为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抓住主要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867280" y="5410080"/>
            <a:ext cx="2971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合作探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8" name=""/>
          <p:cNvSpPr/>
          <p:nvPr/>
        </p:nvSpPr>
        <p:spPr>
          <a:xfrm>
            <a:off x="2474280" y="36576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都有一定的道理 ，都不够全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日本从“闭关锁国”到“对外开放”，主动学习西方先进科技，实现富国强兵的历史性转变，给我们带来了哪些历史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82880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学习先进文明成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与时俱进，坚持改革开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实施科教兴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改革是推动社会发展的强大动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落后就要挨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增强社会责任感和历史使命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791320" y="55627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合作探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899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22860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俄国废除农奴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86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年改革、俄国农奴制改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-22860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048120" y="3886200"/>
            <a:ext cx="246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3520" y="2133720"/>
            <a:ext cx="1238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内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33720" y="914400"/>
          <a:ext cx="6553080" cy="2743200"/>
        </p:xfrm>
        <a:graphic>
          <a:graphicData uri="http://schemas.openxmlformats.org/drawingml/2006/table">
            <a:tbl>
              <a:tblPr/>
              <a:tblGrid>
                <a:gridCol w="1674720"/>
                <a:gridCol w="2592360"/>
                <a:gridCol w="22860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奴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农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农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无土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有土地使用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有土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无自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基本不自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有自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一无所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权利受限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完全权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8" name=""/>
          <p:cNvGrpSpPr/>
          <p:nvPr/>
        </p:nvGrpSpPr>
        <p:grpSpPr>
          <a:xfrm>
            <a:off x="2133720" y="3809880"/>
            <a:ext cx="6629400" cy="3050640"/>
            <a:chOff x="2133720" y="3809880"/>
            <a:chExt cx="6629400" cy="3050640"/>
          </a:xfrm>
        </p:grpSpPr>
        <p:grpSp>
          <p:nvGrpSpPr>
            <p:cNvPr id="69" name=""/>
            <p:cNvGrpSpPr/>
            <p:nvPr/>
          </p:nvGrpSpPr>
          <p:grpSpPr>
            <a:xfrm>
              <a:off x="2133720" y="3814920"/>
              <a:ext cx="3276360" cy="3045600"/>
              <a:chOff x="2133720" y="3814920"/>
              <a:chExt cx="3276360" cy="3045600"/>
            </a:xfrm>
          </p:grpSpPr>
          <p:pic>
            <p:nvPicPr>
              <p:cNvPr id="70" name="Picture 7" descr="W020080904507094581327"/>
              <p:cNvPicPr/>
              <p:nvPr/>
            </p:nvPicPr>
            <p:blipFill>
              <a:blip r:embed="rId4"/>
              <a:stretch/>
            </p:blipFill>
            <p:spPr>
              <a:xfrm>
                <a:off x="2133720" y="3814920"/>
                <a:ext cx="3276360" cy="26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2477160" y="6400800"/>
                <a:ext cx="292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农奴的贫苦生活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486400" y="3809880"/>
              <a:ext cx="3276720" cy="2955240"/>
              <a:chOff x="5486400" y="3809880"/>
              <a:chExt cx="3276720" cy="2955240"/>
            </a:xfrm>
          </p:grpSpPr>
          <p:pic>
            <p:nvPicPr>
              <p:cNvPr id="73" name="Picture 13" descr="地主在毒打农奴"/>
              <p:cNvPicPr/>
              <p:nvPr/>
            </p:nvPicPr>
            <p:blipFill>
              <a:blip r:embed="rId5"/>
              <a:stretch/>
            </p:blipFill>
            <p:spPr>
              <a:xfrm>
                <a:off x="5486400" y="3809880"/>
                <a:ext cx="3276720" cy="269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6324480" y="6305400"/>
                <a:ext cx="237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地主毒打农奴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95280" y="4572000"/>
            <a:ext cx="388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资本主义发展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市场、资本、技术、自由劳动力、原料（资源）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0280" y="3808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农奴制对俄国社会发展有什么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33520" y="2514600"/>
            <a:ext cx="8305200" cy="3505320"/>
            <a:chOff x="533520" y="2514600"/>
            <a:chExt cx="8305200" cy="3505320"/>
          </a:xfrm>
        </p:grpSpPr>
        <p:sp>
          <p:nvSpPr>
            <p:cNvPr id="78" name=""/>
            <p:cNvSpPr/>
            <p:nvPr/>
          </p:nvSpPr>
          <p:spPr>
            <a:xfrm>
              <a:off x="533520" y="3276720"/>
              <a:ext cx="5105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设想你要开设工厂，须考虑哪些因素（具备条件）？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6248160" y="3429000"/>
              <a:ext cx="259056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6248160" y="2514600"/>
              <a:ext cx="2438280" cy="14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黑体"/>
                </a:rPr>
                <a:t>我是老板</a:t>
              </a:r>
              <a:endPara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667880" y="1014480"/>
            <a:ext cx="3350520" cy="1728720"/>
            <a:chOff x="1667880" y="1014480"/>
            <a:chExt cx="3350520" cy="1728720"/>
          </a:xfrm>
        </p:grpSpPr>
        <p:sp>
          <p:nvSpPr>
            <p:cNvPr id="82" name=""/>
            <p:cNvSpPr/>
            <p:nvPr/>
          </p:nvSpPr>
          <p:spPr>
            <a:xfrm>
              <a:off x="1667880" y="101448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农奴制阻碍俄国资本主义发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048120" y="1676520"/>
              <a:ext cx="12952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宋体"/>
                </a:rPr>
                <a:t>？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>
            <a:off x="1828800" y="4572000"/>
            <a:ext cx="5335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160" y="5334120"/>
            <a:ext cx="445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81920" y="4800600"/>
            <a:ext cx="445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24920" y="4876920"/>
            <a:ext cx="445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44240" y="4800600"/>
            <a:ext cx="445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457200" y="0"/>
            <a:ext cx="8229600" cy="6019920"/>
            <a:chOff x="457200" y="0"/>
            <a:chExt cx="8229600" cy="6019920"/>
          </a:xfrm>
        </p:grpSpPr>
        <p:sp>
          <p:nvSpPr>
            <p:cNvPr id="90" name="Rectangle 5"/>
            <p:cNvSpPr/>
            <p:nvPr/>
          </p:nvSpPr>
          <p:spPr>
            <a:xfrm>
              <a:off x="457200" y="0"/>
              <a:ext cx="8229600" cy="601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" name="Object 6"/>
            <p:cNvGraphicFramePr/>
            <p:nvPr/>
          </p:nvGraphicFramePr>
          <p:xfrm>
            <a:off x="1386000" y="1138320"/>
            <a:ext cx="6059520" cy="4595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86000" y="1138320"/>
                      <a:ext cx="6059520" cy="459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Text Box 7"/>
            <p:cNvSpPr/>
            <p:nvPr/>
          </p:nvSpPr>
          <p:spPr>
            <a:xfrm>
              <a:off x="2819520" y="304920"/>
              <a:ext cx="379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农奴暴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2209680" y="4191120"/>
              <a:ext cx="141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86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9"/>
            <p:cNvSpPr/>
            <p:nvPr/>
          </p:nvSpPr>
          <p:spPr>
            <a:xfrm>
              <a:off x="3505320" y="4191120"/>
              <a:ext cx="119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0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4648320" y="4038480"/>
              <a:ext cx="17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6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5791320" y="838080"/>
              <a:ext cx="17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176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1752480" y="457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次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7112160" y="5043600"/>
              <a:ext cx="14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年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343400" y="12193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克里米亚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1759240"/>
          <p:cNvPicPr/>
          <p:nvPr/>
        </p:nvPicPr>
        <p:blipFill>
          <a:blip r:embed="rId2"/>
          <a:stretch/>
        </p:blipFill>
        <p:spPr>
          <a:xfrm>
            <a:off x="3581280" y="2057400"/>
            <a:ext cx="4464000" cy="3382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5334120" y="5562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影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914400"/>
            <a:ext cx="1447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外患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2"/>
          <a:srcRect l="0" t="0" r="0" b="10932"/>
          <a:stretch/>
        </p:blipFill>
        <p:spPr>
          <a:xfrm>
            <a:off x="539640" y="620640"/>
            <a:ext cx="3492720" cy="252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4343400" y="533520"/>
            <a:ext cx="3600360" cy="2671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80880" y="3200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里米亚战争的特点就是一个采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原始生产形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民族对几个拥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现代生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民族进行绝望的搏斗。”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恩格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838080" y="4724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封建农奴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572000" y="4724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工业文明，机器生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1143000" y="685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666880" y="685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农奴暴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45600" y="1600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患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514600" y="1371600"/>
            <a:ext cx="2362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里米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战争失败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52280" y="32004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改革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36232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1371600" y="5181480"/>
            <a:ext cx="2057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4419720" y="5181480"/>
            <a:ext cx="327636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352680" y="45720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7772400" y="4572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5715000" y="685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危及统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5715000" y="1523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显示差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9907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18288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7600" y="2438280"/>
            <a:ext cx="60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落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1371600"/>
            <a:ext cx="6098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304920"/>
            <a:ext cx="722160" cy="19047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53280" y="457200"/>
            <a:ext cx="59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52280" y="228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1143000" y="45720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封建农奴制               俄国资本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0" y="0"/>
            <a:ext cx="624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领导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685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亚历山大二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7652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农奴在法律上是自由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地主不能买卖农奴和干涉    他们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农奴可以得到一块份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但必须出钱赎买这块份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六）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72200" y="5562720"/>
            <a:ext cx="2438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自主学习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3087000" y="15228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6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七）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1219320"/>
            <a:ext cx="3886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资本主义发展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市场  资本  技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自由劳动力  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1599840"/>
            <a:ext cx="10666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133360"/>
            <a:ext cx="10666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1599840"/>
            <a:ext cx="106704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46640" y="40384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自上而下的资产阶级性质的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2096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388620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1599840"/>
            <a:ext cx="106704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76720" y="5181480"/>
            <a:ext cx="990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4-09-25T23:39:07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